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DA572-3744-48D7-BB70-E5230C45BB7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CDA56-28C8-4DE6-B8DE-0B8456DF826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7185-B9E6-4F6C-80E1-FD750768C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F385-F20E-4B3A-B67C-9157C98B2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DB61-AA3D-45A6-86B4-8EEF16DF8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52AF-954E-4FC9-8269-6CA31567B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CE6D8-674A-4CE2-B2E8-81BB4482B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5F54A-E906-41AF-B336-9D4D2F458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7D6AF-E1C4-42C4-BEB2-443BFD960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0B0C1-1146-4666-AEB1-F9637B691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7C556-1F93-4BC6-A145-D0F6F7CD5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2149B-39CF-4673-83ED-97AAB059E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FF3DE-7863-420B-B427-3C16CFFB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5EC6-8238-42FB-B1BD-1D1C25E3B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93371-F6E5-4413-8611-67501D37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7C436-8627-4D00-AB3A-0695073E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B8BCA-DF94-4694-80CC-E588A0037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704EB-D9F8-40B6-9D92-0678A9CB3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A4300-5713-4AEB-A8B5-4FEF07565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F765B-7E45-45B2-9C83-329B1EF26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A780C-EC91-49CC-A23C-BADC84A2F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220CB-D445-4870-B8FC-ADF287B62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66C12-43B8-4E0B-B85A-774573738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D2E5D-B608-4BC4-9F3B-B00E2E744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B79A-58A1-4566-A257-358A7C7AA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2EB84-E97B-42ED-9E4A-4C86E8D75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386C7-DD15-47D1-BDF0-1E1D16F2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C057B-8620-4230-9F2C-D07F786E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CAD5D-BC88-4F79-AABF-CC227AD8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AE230-2D0A-4729-AD21-996681DBA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CE777-AA96-4632-BEA4-1A3EFC872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6A313-530F-4AAE-B3FF-ECCB9A325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96B7B-BF11-4635-9669-229BDB845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EF3BE-EC36-4975-82B6-06130B9C8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132C7-F501-4DA2-8574-B1F4DEDB5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6378-4439-4C9B-ADBF-5414CB99E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7C2C7-1602-49D1-830C-24DE9A24D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745FA-4AEF-478F-8634-812EA9DB1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1941D-D025-41D8-8EFF-A359B5B87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FF858-F24D-4480-8297-FE1FB619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A03E1-FC88-419C-AD1E-F9CDC17F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31947-7285-4BCB-8559-F74569BF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0D6B4-61D0-4C44-BD7D-6382B00FE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9903D-675E-4D6F-80AC-A310F5534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95622-BF57-4326-9540-1F08F145C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69F6-DEF1-44D6-8531-8D5D0FD08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D80F-1C0C-4524-BC92-826087E5C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D52E-E041-4E91-B22C-BB733DF1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92D6-0197-4084-9615-7E9E6443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BE0F-52B3-4765-84A4-EFAC4FE4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copyright 2004  Paul Tilley  College of the North Atlan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D79AD-B6E4-42E9-A1CB-B43DF722BBA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copyright 2004  Paul Tilley  College of the North Atlan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F5E35-8261-4A62-AE78-8DCFE68603C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copyright 2004  Paul Tilley  College of the North Atlan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7F5BB-8BFE-4AFF-ADB5-A8EC459F392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copyright 2004  Paul Tilley  College of the North Atlan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0CF37-DFE3-4BBA-8FEE-73C38D0A177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689040" y="1231920"/>
            <a:ext cx="8259840" cy="19987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nstantia"/>
              </a:rPr>
              <a:t>Chapter 17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nstantia"/>
              </a:rPr>
              <a:t>MR2100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1" name="Picture 4" descr=""/>
          <p:cNvPicPr/>
          <p:nvPr/>
        </p:nvPicPr>
        <p:blipFill>
          <a:blip r:embed="rId1"/>
          <a:srcRect l="0" t="13457" r="0" b="20954"/>
          <a:stretch/>
        </p:blipFill>
        <p:spPr>
          <a:xfrm>
            <a:off x="0" y="1143000"/>
            <a:ext cx="9144000" cy="44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3" name="Picture 3" descr=""/>
          <p:cNvPicPr/>
          <p:nvPr/>
        </p:nvPicPr>
        <p:blipFill>
          <a:blip r:embed="rId1"/>
          <a:srcRect l="9259" t="5557" r="10185" b="9998"/>
          <a:stretch/>
        </p:blipFill>
        <p:spPr>
          <a:xfrm>
            <a:off x="990720" y="0"/>
            <a:ext cx="7772400" cy="67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Developing an Advertising Program - Stage 2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nstantia"/>
              </a:rPr>
              <a:t>Implementing the advertising plan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Prior to launching the advertising campaign, you need to pre-test the ads.  This is done using Portfolio tests, or Jury tests or more sophisticated Theatre</a:t>
            </a:r>
            <a:r>
              <a:rPr b="0" lang="en-GB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tests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Developing an Advertising Program - Stage 3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1904760"/>
            <a:ext cx="91440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626760" indent="-240840">
              <a:spcBef>
                <a:spcPts val="9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nstantia"/>
              </a:rPr>
              <a:t>Evaluating the advertising plan and implementation and the overall effect on sale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2" marL="896040" indent="-241200"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Once the campaign is underway, post-testing must be done to evaluate the effectiveness of the effor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896040" indent="-241200"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Numerous post tests can be done including aided recall, unaided recall , attitude tests, inquiry tests and sales test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Sales Promo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Consumer Oriented Sales Promo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Coup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Dea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Premiu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Contes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Sweepstak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Samp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Continuity Programs (Frequent user promo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Point-of-Purchase display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Consumer reba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1" name="Picture 3" descr=""/>
          <p:cNvPicPr/>
          <p:nvPr/>
        </p:nvPicPr>
        <p:blipFill>
          <a:blip r:embed="rId1"/>
          <a:srcRect l="16666" t="5046" r="16666" b="1086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Sales Promo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rade Oriented Sales Promo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llowanc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Discou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Co-op Advertis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raining of sales for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Public Rela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Public relation hopes to positively influence the perceptions of potential customers towards the organizat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Organizations do not directly pay for Public Relation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Unlike with paid advertising organizations exercise limited control over public relations effor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Public Relations Tool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Some Frequently used Publicity Too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News relea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News Conferenc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Press Ki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Informational Docum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Web Si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Special Event Sponsorshi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Public Service Activ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Promotional Materia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Advertising is..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Advertising is one key element of the promotional mix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Advertising is defined as any </a:t>
            </a: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direct paid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form of </a:t>
            </a: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mass communication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about a product or service or idea by some </a:t>
            </a: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identified sponsor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Types of Advertisemen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0" y="1828440"/>
            <a:ext cx="91440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Advertisements can come in two type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Product Advertisements - Advertises a product directl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Pioneering Ads</a:t>
            </a: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- Provides information on a new product such as what it is, what it can do and where to buy i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Competitive Ads</a:t>
            </a: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- Persuades a customer to buy the advertised product rather than the competitive product. Used in the growth and maturity part of the products lifecycl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Reminder Ads</a:t>
            </a: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- Used to reinforce previous knowledge of the product.  The primary purpose of this is to convince people who have bought the product that they have made a good choice. Used in the maturity stage of the product life cycl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Types of Advertisemen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0" y="1885680"/>
            <a:ext cx="91440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Advertisements can come in two type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Institutional Advertisements - Advertises a company, designed to build goodwill and/or imag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Advocacy Ads-</a:t>
            </a: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Advocates a corporate position, political or otherwis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Pioneering Ads</a:t>
            </a: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- Provides information on a new or unknown company to the public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Competitive Ads</a:t>
            </a: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- Persuades a customer to buy one companies products over those of a competitive company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Reminder Ads</a:t>
            </a: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- Used to reinforce previous knowledge of the company.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Type of Advertis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Advertising is designed in one of two way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Direct Response Advertising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- Designed to elicit an immediate response by the customer. eg - including a statement like “Call Now...”, or “don’t delay…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Delayed Response Advertising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- designed to make the customer aware of the product so that when they do eventually buy they consider that advertised produc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Developing an Advertising Program - 3 stage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ree stages in developing an advertising program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9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nstantia"/>
              </a:rPr>
              <a:t>1)  Plan the advertising effor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9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nstantia"/>
              </a:rPr>
              <a:t>2)  Implement the advertising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9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nstantia"/>
              </a:rPr>
              <a:t>3)  Evaluate the advertising and its effect on     sale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Developing an Advertising Program - Stage 1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nstantia"/>
              </a:rPr>
              <a:t>Planning the advertising effort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arget the audience by asking and answering: Who are we selling this to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Specify the objectives of the advertising effort. Make sure the objectives are clear. Note the Hierarchy of Effec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Developing an Advertising Program - Stage 1 cont..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nstantia"/>
              </a:rPr>
              <a:t>Planning the advertising effort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Select the advertising budget and determine how to create the budge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Budgets can be based on a Percentage of Sales, Competitive Parity, All you can afford to spend, or Objective and Task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Create the message, determine the content and how the content should be presented (Appeal).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Developing an Advertising Program - Stage 1 cont..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nstantia"/>
              </a:rPr>
              <a:t>Planning the advertising effort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Select the right media.  Media choice is key to effective advertising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Be aware of Terms such as Reach, rating, frequency, gross rating points and cost-per -thousand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Also be aware of the different types of media as well as advantages and disadvantages of the different media types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4T16:59:38Z</dcterms:created>
  <dc:creator>Debbie Vincent</dc:creator>
  <dc:description/>
  <dc:language>en-US</dc:language>
  <cp:lastModifiedBy>Tilley, Paul (C'ville)</cp:lastModifiedBy>
  <dcterms:modified xsi:type="dcterms:W3CDTF">2012-04-04T14:58:17Z</dcterms:modified>
  <cp:revision>23</cp:revision>
  <dc:subject/>
  <dc:title>Marketing Channels and Wholesal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ville.northatlantic.nf.ca/~ptilley</vt:lpwstr>
  </property>
  <property fmtid="{D5CDD505-2E9C-101B-9397-08002B2CF9AE}" pid="9" name="LinkColor">
    <vt:r8>16711782</vt:r8>
  </property>
  <property fmtid="{D5CDD505-2E9C-101B-9397-08002B2CF9AE}" pid="10" name="MailAddress">
    <vt:lpwstr>ptilley@cville.northatlantic.nf.ca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Homepage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